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9907-8484-492D-A484-55A6496A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67D-1A51-44FE-AC1E-08117FA6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985-511C-42EB-9019-3728BA3C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691-276C-418B-8791-53EA2DD2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4077-1292-490A-8122-9B7CE03F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AD0-BC21-497A-AEC2-250A3265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FA7-88D1-4043-B7AE-2502DFAA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18C-10C8-4586-B423-A1C060E6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609-3EE1-460C-88E5-5A1D842E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954D-5D08-4B8A-BAF9-112A46A9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6BC-7CBD-41FA-A9A2-AA50A9EB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8A5-EFB6-4124-B7E6-ADB7AC63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D656-CE38-40AC-A629-C23246B4F04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zapatitoingles.blogspot.co.uk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omsmflpage.blogspot.co.uk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classic-play.com/traveling-with-kids-belgian-seaside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eb.archive.org/web/20141103225411/http://www.primarylanguages.org.uk/home.aspx" TargetMode="External"/><Relationship Id="rId2" Type="http://schemas.openxmlformats.org/officeDocument/2006/relationships/hyperlink" Target="http://web.archive.org/web/20140807082337/http://www.primarylanguages.org.uk/training_zone.aspx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eb.archive.org/web/20140531103229/http://www.cilt.org.uk/secondary/transition.aspx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ll-languages.org.uk/support/resources/primary_resources" TargetMode="External"/><Relationship Id="rId2" Type="http://schemas.openxmlformats.org/officeDocument/2006/relationships/hyperlink" Target="http://www.all-languages.org.uk/support/themes/literature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hyperlink" Target="http://www.janetlloyd.net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renchteacher.net/resources/beginner/" TargetMode="External"/><Relationship Id="rId2" Type="http://schemas.openxmlformats.org/officeDocument/2006/relationships/hyperlink" Target="http://www.frenchteacher.net/freeresources/samples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900" spc="-1" strike="noStrike">
                <a:solidFill>
                  <a:srgbClr val="6dc1e3"/>
                </a:solidFill>
                <a:latin typeface="Comic Sans MS"/>
              </a:rPr>
              <a:t>The virtual world of languages for all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new and emerging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767040" y="838080"/>
            <a:ext cx="16099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dc1e3"/>
                </a:solidFill>
                <a:latin typeface="Comic Sans MS"/>
              </a:rPr>
              <a:t>Erzi Culshaw – this is how we learn Spanis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zapatitoingles.blogspot.co.uk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zi is a Spanish teacher working in 2 primary schools in Burscough, West Lanc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dc1e3"/>
                </a:solidFill>
                <a:latin typeface="Comic Sans MS"/>
              </a:rPr>
              <a:t>Bloggers – primary and secondary langu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omsmflpage.blogspot.co.uk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angelikasgerman.co.uk/blog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boxoftricks.net/blog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fliplearningmfl.blogspot.co.uk/p/about-u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modernlanguagemusings.blogspot.co.uk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dc1e3"/>
                </a:solidFill>
                <a:latin typeface="Comic Sans MS"/>
              </a:rPr>
              <a:t>More primary and secondary blogg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thwlanguages.blogspot.co.uk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mflmeanderings.blogspot.co.uk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zapatitoingles.blogspot.co.uk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dc1e3"/>
                </a:solidFill>
                <a:latin typeface="Comic Sans MS"/>
              </a:rPr>
              <a:t>Twitter - those to follow - second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uth Bai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@Ruthabaile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nguage Teachers Ire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@LangTeachersIre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len My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@HelenMy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twitter"/>
          <p:cNvPicPr/>
          <p:nvPr/>
        </p:nvPicPr>
        <p:blipFill>
          <a:blip r:embed="rId1"/>
          <a:stretch/>
        </p:blipFill>
        <p:spPr>
          <a:xfrm>
            <a:off x="7236000" y="4797360"/>
            <a:ext cx="14382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dc1e3"/>
                </a:solidFill>
                <a:latin typeface="Comic Sans MS"/>
              </a:rPr>
              <a:t>Twitter – those to follow - pri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are Seccom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@vallese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anet Lloy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@JanetLloyd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zi Culsh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@erziculsh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ulie Pri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@PrinceLangu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twitter"/>
          <p:cNvPicPr/>
          <p:nvPr/>
        </p:nvPicPr>
        <p:blipFill>
          <a:blip r:embed="rId1"/>
          <a:stretch/>
        </p:blipFill>
        <p:spPr>
          <a:xfrm>
            <a:off x="7164360" y="4724280"/>
            <a:ext cx="14382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dc1e3"/>
                </a:solidFill>
                <a:latin typeface="Comic Sans MS"/>
              </a:rPr>
              <a:t>Good education tweeters and bloggers The top te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m Bennet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@tombennett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os McMull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@RosM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m Sheringto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@headguru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ohn Dexte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@MrJDex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arlath O’Bri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@JarlathOBri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ncy Gedg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@nancyg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ue Cowley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@Sue_Cowl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ura McInerney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@miss_mciner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ic Goddar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@vicgodd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ohn Tomset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@johntomset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twitter"/>
          <p:cNvPicPr/>
          <p:nvPr/>
        </p:nvPicPr>
        <p:blipFill>
          <a:blip r:embed="rId1"/>
          <a:stretch/>
        </p:blipFill>
        <p:spPr>
          <a:xfrm>
            <a:off x="7236000" y="4797360"/>
            <a:ext cx="14382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dc1e3"/>
                </a:solidFill>
                <a:latin typeface="Comic Sans MS"/>
              </a:rPr>
              <a:t>Working in partnershi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e Languages Ensembl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l Hall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tgrave Candleby L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ibworth Aff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ushey M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ourport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omas Est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7380360" y="4724280"/>
            <a:ext cx="13428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-108000" y="5259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reative Commons License"/>
          <p:cNvPicPr/>
          <p:nvPr/>
        </p:nvPicPr>
        <p:blipFill>
          <a:blip r:embed="rId1"/>
          <a:stretch/>
        </p:blipFill>
        <p:spPr>
          <a:xfrm>
            <a:off x="250920" y="5857920"/>
            <a:ext cx="847800" cy="3049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179280" y="6129720"/>
            <a:ext cx="9360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Ensemble Languages Project,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2015 for the Ensemble Languages Project, Ensemble_The Languages Treasu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This work is licensed under the Creative Commons Attribution-NonCommercial 4.0 International License: http://creativecommons.org/licenses/by-nc/4.0/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paper flowers 1"/>
          <p:cNvPicPr/>
          <p:nvPr/>
        </p:nvPicPr>
        <p:blipFill>
          <a:blip r:embed="rId1"/>
          <a:stretch/>
        </p:blipFill>
        <p:spPr>
          <a:xfrm>
            <a:off x="1258920" y="1413000"/>
            <a:ext cx="6769080" cy="4284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476360" y="47628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treasury of sources of support for primary and secondary languages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paper flowers 2"/>
          <p:cNvPicPr/>
          <p:nvPr/>
        </p:nvPicPr>
        <p:blipFill>
          <a:blip r:embed="rId1"/>
          <a:stretch/>
        </p:blipFill>
        <p:spPr>
          <a:xfrm>
            <a:off x="2195640" y="2481120"/>
            <a:ext cx="5068800" cy="3611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116000" y="765000"/>
            <a:ext cx="755964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anguage learning, knowledge about language and intercultural 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bloemenwinkel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 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classic-play.com/traveling-with-kids-belgian-seasid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dc1e3"/>
                </a:solidFill>
                <a:latin typeface="Comic Sans MS"/>
              </a:rPr>
              <a:t>Who’s who? And who does wha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On-lin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– materials produced recently but now archived. These include CILT resources and subject association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Blogger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–  materials written by teachers, advisers and trainers across all phases to support us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Tweeter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– those who comment, stimulate and often point us to what can be shared for languages and more gener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dc1e3"/>
                </a:solidFill>
                <a:latin typeface="Comic Sans MS"/>
              </a:rPr>
              <a:t>Primary Languages and Primary Languages Training Z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eb.archive.org/web/20141103225411/http://www.primarylanguages.org.uk/home.asp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eb.archive.org/web/20140807082337/http://www.primarylanguages.org.uk/training_zone.asp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6dc1e3"/>
                </a:solidFill>
                <a:latin typeface="Comic Sans MS"/>
              </a:rPr>
              <a:t>Primary to secondary transition</a:t>
            </a:r>
            <a:br>
              <a:rPr sz="3600"/>
            </a:br>
            <a:r>
              <a:rPr b="1" lang="en-GB" sz="3600" spc="-1" strike="noStrike">
                <a:solidFill>
                  <a:srgbClr val="6dc1e3"/>
                </a:solidFill>
                <a:latin typeface="Comic Sans MS"/>
              </a:rPr>
              <a:t>Sharp focus on 7-14 progress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eb.archive.org/web/20140531103229/http://www.cilt.org.uk/secondary/transition.asp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dc1e3"/>
                </a:solidFill>
                <a:latin typeface="Comic Sans MS"/>
              </a:rPr>
              <a:t>Association for Language Lear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ll-languages.org.uk/support/resources/primary_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all-languages.org.uk/support/themes/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dc1e3"/>
                </a:solidFill>
                <a:latin typeface="Comic Sans MS"/>
              </a:rPr>
              <a:t>Some great sites and a richness of treasures – lots buried here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lightbulblanguages.co.uk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ssive thanks to Clare Seccom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janetlloyd.ne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ssive thanks to Janet Lloyd – both Janet and Clare regularly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dc1e3"/>
                </a:solidFill>
                <a:latin typeface="Comic Sans MS"/>
              </a:rPr>
              <a:t>And more…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renchteacher.net/resources/beginner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rged but only £20 per year for access to the whole sit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renchteacher.net/freeresources/samples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ee samples – all worth looking 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ssive thanks to Steve Smith who also regularly updates both free and charged resourc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22:10:37Z</dcterms:created>
  <dc:creator>Susan</dc:creator>
  <dc:description/>
  <dc:language>en-US</dc:language>
  <cp:lastModifiedBy>Charlotte Johnston</cp:lastModifiedBy>
  <dcterms:modified xsi:type="dcterms:W3CDTF">2015-06-02T10:48:21Z</dcterms:modified>
  <cp:revision>234</cp:revision>
  <dc:subject/>
  <dc:title>Slide 1</dc:title>
</cp:coreProperties>
</file>