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</p:sldIdLst>
  <p:sldSz cx="9180513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907920" y="744120"/>
            <a:ext cx="49816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169F-023A-4B1F-A13A-8C3FD035D3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8168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92A7-0194-46A0-803D-883AD4E7F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8168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/Sample birthday board for the classroom.  Children can enter their own names on the powerpoint slides – see separate file “Le calendrier des anniversaires pour la class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602E-D8D5-4073-BBA3-CAD2FEE20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976-0E03-4420-8164-5576203A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4B5-CEB0-470D-9F27-75E50BA0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32C-2321-4D30-BDF9-8B7C85EB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22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58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828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22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58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F39-3A91-4410-AB2B-9E43B0D3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84A9-C608-4125-9468-B261BD75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E550-335F-4CBF-89FE-55957F01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E7F4-F249-4A48-B4D9-87BC4BBC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0E54-6FFD-4584-8783-5D1F6B64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786F-C7CA-4E51-9F6F-6FFA3C8B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8280" y="151920"/>
            <a:ext cx="82630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050B-59D6-410E-AAB1-976E0169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B7BA-5D82-4E8D-B67F-D194B516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018-8B6A-4C49-A176-156CD95C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E3E2-3130-45FB-9734-7B22BEE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72B2-4066-48DD-9423-D28870D3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FC80-16B7-484C-966F-7D4434BC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A368-1419-4BFB-9ED6-AA58F148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22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58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828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22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58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45B0-41B3-4403-8C00-129C670C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251D4-5F24-4A1B-A4D0-CF20A874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2F3D-0877-4A03-AFFB-C8333144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1FB94-2621-4E02-A699-234C8030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E7CC-8D72-4B41-AE06-DBA69662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D662-C60E-4929-B3CC-862A6968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247-A08B-4B82-BB20-844BD627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8280" y="151920"/>
            <a:ext cx="82630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2EEF-8CAD-4FAA-92A1-382E13E3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4AF3D-B32E-4C3E-99F8-E9247BF8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DDEA0-3296-40D1-A6C9-A7D792FF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695F-685F-44CE-9E75-6D997DB8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F594-B5C1-4BFE-90FD-5071B6B4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2BF00-90B8-4F81-A8FF-3CECAC66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522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58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828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522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58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BF4C-96B8-40AE-9736-C68396D5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98753-529A-4B58-A214-CF804904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B3131-E58F-4090-AF34-ACD0B588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8F7C-FA54-4D87-A31C-11A9A2E6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078-1F36-4DDE-97E1-A921461D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BB901-D869-4E15-BCC2-94E153FC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625AE-C625-4C71-8CF7-A588B5EB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8280" y="151920"/>
            <a:ext cx="82630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99A58-84AF-445A-88F5-6036D421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195D2-C4B3-4284-8FB1-41141870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752C-BD18-458A-A6CF-518D8BBE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4EB4C-2200-458B-85FF-89182856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70DAD-C9FD-46B7-AE6A-32E54292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1178A-BBD0-4F8C-BA99-60522FF3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22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458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828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22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458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9F820-2C42-4FFA-AF82-405AB847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82CAD-DC8B-45CF-B795-1247B6F1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CFA-0C66-42B5-8AC2-1893A44B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F30F4-06AD-4C77-9713-F8CBCD3E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DE2F0-943E-493F-AC99-DBBDBB8A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1852-DBD0-4D74-ACAF-FB05A985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8B041-4A84-4D2D-B85A-74140595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8280" y="151920"/>
            <a:ext cx="82630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55CE2-89FD-42D6-AD49-9829FD82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A7F5-7EAC-4C9E-A7C6-7D84B809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C1FDA-E0A6-4297-BB0D-89AEFE21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CB693-4A5B-4098-868F-722AAE78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81EFA-1CCB-4003-9322-91DED311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8EC98-B637-4F40-94ED-860B2218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8280" y="151920"/>
            <a:ext cx="82630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03F-8385-495A-B943-A41BD2B4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22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458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828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22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458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5BB16-D15A-471C-A26A-2714B9DB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6B648-A2D8-49AC-AA52-8CFF5917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A7550-6C70-4E31-83BF-57532CE4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75384-5713-434E-B674-5EBE3310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3DCD3-5130-45A1-95C0-53C1657D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D582D-0C4B-483E-A143-82AE8B3B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8280" y="151920"/>
            <a:ext cx="82630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1C271-EADB-4872-8C86-D8809064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88E39-5A5A-48EA-931C-2F249577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D28AD-59AC-483E-9ED7-A20C404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485F-0125-4446-A40A-9DACC215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C4B-BFB3-4CCE-9062-65C1D72B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9BA00-1648-470F-9424-1337F4C0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454E4-39D0-4058-9741-D4D00AA3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522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458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828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522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458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BACC5-3F67-47C4-AD17-3A1E2009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02843-819B-433B-9A5B-23D381A8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EAAB-1BD9-4F07-905A-2083BA0E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41CED-1C34-4AF4-992E-E30CF649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B28D0-47DD-45A9-AC3E-5CB77E41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12404-6880-452A-B282-CD92E0EC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8280" y="151920"/>
            <a:ext cx="82630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2526E-BCBF-4504-B3F3-01F1B72D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C01DC-E759-45D1-B8B0-70B1FC88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300-5C4E-4C62-B05A-A291A144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AA867-F399-4489-ABA3-DFF526EB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229D2-F6D6-4859-B472-BDBA4F34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D590E-2FC3-4190-B5E0-CA78F739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A821D-A4E5-4EEB-8B4A-E7F15C43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522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458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828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522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458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3198C-4E83-4745-8DF1-031D3951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EFC0E-FA32-4A85-88AD-790A7D35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345B9-7846-4867-9D04-CE5C5F77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779D9-E620-4735-AE54-CE70DDBA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D38BB-3BD3-4D04-8C65-B7F25125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F0CAF-E671-4190-B440-A29E4229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F50-C592-4925-A938-54A5B8D7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8280" y="151920"/>
            <a:ext cx="82630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8CC50-EA27-43E2-81F7-A122B7CF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1EF5A-4901-44C2-94AE-A2D5A413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4A937-D351-4B3E-9C0F-051A236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C6029-7BAC-4533-9F95-05FFC311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8280" y="4191120"/>
            <a:ext cx="826308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DE824-9465-41ED-8BBB-53C497EE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2600" y="177480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828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92600" y="4191120"/>
            <a:ext cx="403236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D00B4-A997-4D8A-9645-7F924F83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828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22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45840" y="177480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828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22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45840" y="4191120"/>
            <a:ext cx="2660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B0737-B7EB-4751-A845-55A6B71F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8036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8036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8640" y="6476760"/>
            <a:ext cx="214344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50680" y="6476760"/>
            <a:ext cx="55292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7520" y="6476760"/>
            <a:ext cx="7365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935C-E3BD-4B74-A2B5-FB28BB826DA3}" type="slidenum">
              <a:rPr b="0" lang="en-GB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8036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8036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8640" y="6476760"/>
            <a:ext cx="214344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50680" y="6476760"/>
            <a:ext cx="55292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37520" y="6476760"/>
            <a:ext cx="7365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AA1D-A4AA-4D01-B684-C0B3E80841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8036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8036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8640" y="6476760"/>
            <a:ext cx="214344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50680" y="6476760"/>
            <a:ext cx="55292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37520" y="6476760"/>
            <a:ext cx="7365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1E16-CD4C-474F-AD1D-BC6699B133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8640" y="6476760"/>
            <a:ext cx="214344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50680" y="6476760"/>
            <a:ext cx="55292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37520" y="6476760"/>
            <a:ext cx="7365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359B-34D0-462B-97E9-DDA033EF614F}" type="slidenum">
              <a:rPr b="0" lang="en-GB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8036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8036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6704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6704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8640" y="6476760"/>
            <a:ext cx="214344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50680" y="6476760"/>
            <a:ext cx="55292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7520" y="6476760"/>
            <a:ext cx="7365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2CE4-A2FD-40E6-B24A-56D17DC82E9E}" type="slidenum">
              <a:rPr b="0" lang="en-GB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8036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8036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6704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6704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5240" y="1170000"/>
            <a:ext cx="253368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48120" y="1170000"/>
            <a:ext cx="521496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72520" y="1170000"/>
            <a:ext cx="73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562C-A6E6-49FE-A36A-994BF10C761E}" type="slidenum">
              <a:rPr b="0" lang="en-GB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62472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73680" y="0"/>
            <a:ext cx="25257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8640" y="6476760"/>
            <a:ext cx="214344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51040" y="6377040"/>
            <a:ext cx="38512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37520" y="6476760"/>
            <a:ext cx="7365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30C1-D315-4E68-9D51-07D838181C0F}" type="slidenum">
              <a:rPr b="0" lang="en-GB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436760"/>
            <a:ext cx="918036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8036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8280" y="151920"/>
            <a:ext cx="8263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8280" y="1774800"/>
            <a:ext cx="82630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8640" y="6244920"/>
            <a:ext cx="2143440" cy="4762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37040" y="6244920"/>
            <a:ext cx="29066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78280" y="6244920"/>
            <a:ext cx="214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E77E-A899-4BB2-A98A-E8C5DC7B49A0}" type="slidenum">
              <a:rPr b="0" lang="en-GB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C:\Users\Sarah English\AppData\Local\Microsoft\Windows\Temporary Internet Files\Content.IE5\7TN1XLHV\975px-Flag_map_of_Greater_France[1].png"/>
          <p:cNvPicPr/>
          <p:nvPr/>
        </p:nvPicPr>
        <p:blipFill>
          <a:blip r:embed="rId1">
            <a:lum bright="52000"/>
          </a:blip>
          <a:stretch/>
        </p:blipFill>
        <p:spPr>
          <a:xfrm>
            <a:off x="1278000" y="0"/>
            <a:ext cx="652932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Rectangle 2" descr=""/>
          <p:cNvPicPr/>
          <p:nvPr/>
        </p:nvPicPr>
        <p:blipFill>
          <a:blip r:embed="rId2"/>
          <a:stretch/>
        </p:blipFill>
        <p:spPr>
          <a:xfrm>
            <a:off x="414360" y="1414440"/>
            <a:ext cx="8259840" cy="3664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2" descr="C:\Users\Sarah English\AppData\Local\Microsoft\Windows\Temporary Internet Files\Content.IE5\IUZS43PA\DaveViveLaFrance[1].gif"/>
          <p:cNvPicPr/>
          <p:nvPr/>
        </p:nvPicPr>
        <p:blipFill>
          <a:blip r:embed="rId3"/>
          <a:stretch/>
        </p:blipFill>
        <p:spPr>
          <a:xfrm>
            <a:off x="7686720" y="189000"/>
            <a:ext cx="1336680" cy="1014480"/>
          </a:xfrm>
          <a:prstGeom prst="rect">
            <a:avLst/>
          </a:prstGeom>
          <a:ln w="0">
            <a:noFill/>
          </a:ln>
        </p:spPr>
      </p:pic>
      <p:sp>
        <p:nvSpPr>
          <p:cNvPr id="356" name="TextBox 4"/>
          <p:cNvSpPr/>
          <p:nvPr/>
        </p:nvSpPr>
        <p:spPr>
          <a:xfrm>
            <a:off x="1278000" y="5084640"/>
            <a:ext cx="6696000" cy="1556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Handwriting"/>
                <a:ea typeface="Aharoni"/>
              </a:rPr>
              <a:t>de Monsieur  …….(n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Handwriting"/>
                <a:ea typeface="Aharoni"/>
              </a:rPr>
              <a:t>de Madame  ………(n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" descr=""/>
          <p:cNvPicPr/>
          <p:nvPr/>
        </p:nvPicPr>
        <p:blipFill>
          <a:blip r:embed="rId4"/>
          <a:stretch/>
        </p:blipFill>
        <p:spPr>
          <a:xfrm>
            <a:off x="195120" y="5786280"/>
            <a:ext cx="1062360" cy="868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5"/>
          <a:stretch/>
        </p:blipFill>
        <p:spPr>
          <a:xfrm>
            <a:off x="7994520" y="5800680"/>
            <a:ext cx="108432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4" descr=""/>
          <p:cNvPicPr/>
          <p:nvPr/>
        </p:nvPicPr>
        <p:blipFill>
          <a:blip r:embed="rId1"/>
          <a:stretch/>
        </p:blipFill>
        <p:spPr>
          <a:xfrm>
            <a:off x="414360" y="0"/>
            <a:ext cx="619452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0" name=""/>
          <p:cNvGraphicFramePr/>
          <p:nvPr/>
        </p:nvGraphicFramePr>
        <p:xfrm>
          <a:off x="198360" y="1557360"/>
          <a:ext cx="8458200" cy="4998960"/>
        </p:xfrm>
        <a:graphic>
          <a:graphicData uri="http://schemas.openxmlformats.org/drawingml/2006/table">
            <a:tbl>
              <a:tblPr/>
              <a:tblGrid>
                <a:gridCol w="1406520"/>
                <a:gridCol w="1414440"/>
                <a:gridCol w="1406520"/>
                <a:gridCol w="1413000"/>
                <a:gridCol w="1406520"/>
                <a:gridCol w="1411200"/>
              </a:tblGrid>
              <a:tr h="94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janv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févr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m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avr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m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ju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1" name="Picture 254" descr="C:\Users\Sarah English\AppData\Local\Microsoft\Windows\Temporary Internet Files\Content.IE5\7TN1XLHV\mois-de-janvier2-300x218[1].jpg"/>
          <p:cNvPicPr/>
          <p:nvPr/>
        </p:nvPicPr>
        <p:blipFill>
          <a:blip r:embed="rId2"/>
          <a:stretch/>
        </p:blipFill>
        <p:spPr>
          <a:xfrm>
            <a:off x="341280" y="1916280"/>
            <a:ext cx="1224000" cy="1322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56" descr="C:\Users\Sarah English\AppData\Local\Microsoft\Windows\Temporary Internet Files\Content.IE5\GGTS2H3C\poisson_d'avril[1].jpg"/>
          <p:cNvPicPr/>
          <p:nvPr/>
        </p:nvPicPr>
        <p:blipFill>
          <a:blip r:embed="rId3"/>
          <a:stretch/>
        </p:blipFill>
        <p:spPr>
          <a:xfrm>
            <a:off x="4589640" y="1986120"/>
            <a:ext cx="1225440" cy="1242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58" descr="C:\Users\Sarah English\AppData\Local\Microsoft\Windows\Temporary Internet Files\Content.IE5\5NF8NH2X\1-mai-mezeluri-logo[1].png"/>
          <p:cNvPicPr/>
          <p:nvPr/>
        </p:nvPicPr>
        <p:blipFill>
          <a:blip r:embed="rId4"/>
          <a:stretch/>
        </p:blipFill>
        <p:spPr>
          <a:xfrm>
            <a:off x="5815080" y="1844640"/>
            <a:ext cx="1522440" cy="1513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61" descr="C:\Users\Sarah English\AppData\Local\Microsoft\Windows\Temporary Internet Files\Content.IE5\7TN1XLHV\feb_desktop_1[1].jpg"/>
          <p:cNvPicPr/>
          <p:nvPr/>
        </p:nvPicPr>
        <p:blipFill>
          <a:blip r:embed="rId5"/>
          <a:stretch/>
        </p:blipFill>
        <p:spPr>
          <a:xfrm>
            <a:off x="1709640" y="206064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66" descr="http://www.coloriage.tv/dessincolo/mois-de-juin.png"/>
          <p:cNvPicPr/>
          <p:nvPr/>
        </p:nvPicPr>
        <p:blipFill>
          <a:blip r:embed="rId6"/>
          <a:stretch/>
        </p:blipFill>
        <p:spPr>
          <a:xfrm>
            <a:off x="7470720" y="2060640"/>
            <a:ext cx="1046160" cy="1046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2" descr="C:\Users\Sarah English\AppData\Local\Microsoft\Windows\Temporary Internet Files\Content.IE5\IUZS43PA\DaveViveLaFrance[1].gif"/>
          <p:cNvPicPr/>
          <p:nvPr/>
        </p:nvPicPr>
        <p:blipFill>
          <a:blip r:embed="rId7"/>
          <a:stretch/>
        </p:blipFill>
        <p:spPr>
          <a:xfrm>
            <a:off x="7686720" y="189000"/>
            <a:ext cx="1336680" cy="1014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68" descr="mars"/>
          <p:cNvPicPr/>
          <p:nvPr/>
        </p:nvPicPr>
        <p:blipFill>
          <a:blip r:embed="rId8"/>
          <a:stretch/>
        </p:blipFill>
        <p:spPr>
          <a:xfrm>
            <a:off x="3149640" y="2052720"/>
            <a:ext cx="129708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270000" y="189000"/>
            <a:ext cx="734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MV Boli"/>
                <a:ea typeface="MV Boli"/>
              </a:rPr>
              <a:t>Le calendrier des Anniversa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98360" y="1773360"/>
          <a:ext cx="8802720" cy="4647960"/>
        </p:xfrm>
        <a:graphic>
          <a:graphicData uri="http://schemas.openxmlformats.org/drawingml/2006/table">
            <a:tbl>
              <a:tblPr/>
              <a:tblGrid>
                <a:gridCol w="1465200"/>
                <a:gridCol w="1360800"/>
                <a:gridCol w="1576080"/>
                <a:gridCol w="1468440"/>
                <a:gridCol w="1463760"/>
                <a:gridCol w="1468440"/>
              </a:tblGrid>
              <a:tr h="116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juill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aoû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septe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octo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nove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MV Boli"/>
                          <a:ea typeface="MV Boli"/>
                        </a:rPr>
                        <a:t>déce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0" name="Picture 66" descr="C:\Users\Sarah English\AppData\Local\Microsoft\Windows\Temporary Internet Files\Content.IE5\IUZS43PA\septembre[1].jpg"/>
          <p:cNvPicPr/>
          <p:nvPr/>
        </p:nvPicPr>
        <p:blipFill>
          <a:blip r:embed="rId1"/>
          <a:stretch/>
        </p:blipFill>
        <p:spPr>
          <a:xfrm>
            <a:off x="3006720" y="2133720"/>
            <a:ext cx="1370160" cy="1171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8" descr="C:\Users\Sarah English\AppData\Local\Microsoft\Windows\Temporary Internet Files\Content.IE5\GGTS2H3C\513804bon_14_juillet_1_[1].gif"/>
          <p:cNvPicPr/>
          <p:nvPr/>
        </p:nvPicPr>
        <p:blipFill>
          <a:blip r:embed="rId2"/>
          <a:stretch/>
        </p:blipFill>
        <p:spPr>
          <a:xfrm>
            <a:off x="341280" y="2133720"/>
            <a:ext cx="1111320" cy="1238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5" descr="C:\Users\Sarah English\AppData\Local\Microsoft\Windows\Temporary Internet Files\Content.IE5\7TN1XLHV\NOVEMBRE[1].jpg"/>
          <p:cNvPicPr/>
          <p:nvPr/>
        </p:nvPicPr>
        <p:blipFill>
          <a:blip r:embed="rId3"/>
          <a:stretch/>
        </p:blipFill>
        <p:spPr>
          <a:xfrm>
            <a:off x="6246720" y="2349360"/>
            <a:ext cx="1224000" cy="941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8" descr="C:\Users\Sarah English\AppData\Local\Microsoft\Windows\Temporary Internet Files\Content.IE5\367FZVZ2\capture-d_ecran-2010-11-01-a-09-05-30[1].png"/>
          <p:cNvPicPr/>
          <p:nvPr/>
        </p:nvPicPr>
        <p:blipFill>
          <a:blip r:embed="rId4"/>
          <a:stretch/>
        </p:blipFill>
        <p:spPr>
          <a:xfrm>
            <a:off x="4662360" y="2276640"/>
            <a:ext cx="1295640" cy="1074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2" descr="C:\Users\Sarah English\AppData\Local\Microsoft\Windows\Temporary Internet Files\Content.IE5\367FZVZ2\noel_dessin[1].jpg"/>
          <p:cNvPicPr/>
          <p:nvPr/>
        </p:nvPicPr>
        <p:blipFill>
          <a:blip r:embed="rId5"/>
          <a:stretch/>
        </p:blipFill>
        <p:spPr>
          <a:xfrm>
            <a:off x="7686720" y="2205000"/>
            <a:ext cx="1295280" cy="11098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1" descr="C:\Users\Sarah English\AppData\Local\Microsoft\Windows\Temporary Internet Files\Content.IE5\7TN1XLHV\good_sun1[1].jpg"/>
          <p:cNvPicPr/>
          <p:nvPr/>
        </p:nvPicPr>
        <p:blipFill>
          <a:blip r:embed="rId6"/>
          <a:stretch/>
        </p:blipFill>
        <p:spPr>
          <a:xfrm>
            <a:off x="1781280" y="2276640"/>
            <a:ext cx="1001520" cy="1011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2" descr="C:\Users\Sarah English\AppData\Local\Microsoft\Windows\Temporary Internet Files\Content.IE5\IUZS43PA\DaveViveLaFrance[1].gif"/>
          <p:cNvPicPr/>
          <p:nvPr/>
        </p:nvPicPr>
        <p:blipFill>
          <a:blip r:embed="rId7"/>
          <a:stretch/>
        </p:blipFill>
        <p:spPr>
          <a:xfrm>
            <a:off x="7527960" y="135000"/>
            <a:ext cx="1495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0:10:26Z</dcterms:created>
  <dc:creator>saenglish</dc:creator>
  <dc:description/>
  <dc:language>en-US</dc:language>
  <cp:lastModifiedBy>Julie Thain</cp:lastModifiedBy>
  <dcterms:modified xsi:type="dcterms:W3CDTF">2016-04-01T14:46:36Z</dcterms:modified>
  <cp:revision>55</cp:revision>
  <dc:subject/>
  <dc:title>Le calendrier des Anniversaires</dc:title>
</cp:coreProperties>
</file>