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80513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907920" y="744120"/>
            <a:ext cx="49816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774B-A111-41FB-B609-54C03D40F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calendar to use and some ideas of how to make one for your class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109E-4721-47D6-90C5-EC09A896EC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Birthday train is always popular.  Create carriages with enough windows for each child per month or see carriages on the next slide for more id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68C4-A707-4C46-9146-7203AAA5D1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riages can be made and photos of children who have birthdays in that month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3596-E8E6-4C80-9B2A-5124EC285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ys of the week.  Note the French scri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7833-1D37-4A70-87B3-CD2B219C46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/Sample birthday board for the classroom.  Children can enter their own names on the powerpoint slides – see separate file “Le calendrier des anniversaires pour la class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C198-95A8-44BA-93F9-5B8DD58E2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rthday chart idea for years 1 to 6. Older children can create their own chart over the course of the week in which you teach the months.  NB. Mon, Ma, Mes = 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48D4-2A8B-4B26-8F4A-6CA10C825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rench Pinterest cupcakes to start you off.  You could have a competition during the week to see who can produce the best design for the first six months of the year to add to your class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949C-BCFF-4D9F-82EB-F9D407C40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rthday chart idea years 1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7B72-EC1F-459B-AC42-A967F7894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ildren can be taught the seasons as well and produce a seasonal birthday frieze for their classroom.  This could be started as a project to be completed over the whole of the first half term.  Focus on Autumn and september-november so that children with those birthdays don’t miss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45A8-4A99-470B-B385-5A1B32B8A8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AFB-0632-484C-B68C-B080C274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69F-3514-4A0F-B09F-B93B8033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DBF-B72C-4A14-BC75-D407FC9C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522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58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828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522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58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ADB-1797-4C0A-AC67-A2464B65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3FA2-E86C-4C05-9E64-2AFD449D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38FA-4FFF-41D0-B5F2-0D64A70C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D5AA-17D9-436B-9B59-30354C18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6FE7-BE5E-4DE3-B6C3-7044763D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6E60-9CD0-48F2-B1FB-0F0163EE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8280" y="704520"/>
            <a:ext cx="826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0FEC-7DC3-4E85-B45F-B91851DD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D9AD-7FC3-4D12-8322-2418B62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681-AA25-4908-9673-4725186E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28E9-5D99-4375-9120-7F3FBE8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8558-42C5-4DC6-9C0D-FC75DE6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952E-9D1B-4960-BE76-14EEE18F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F71E-7D0C-4187-BE78-54338D3F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22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458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828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22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458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55FD-2D81-4CB9-9805-27A3C671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7CA1-E7D7-4677-9FEC-5B3FEF71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1327-C080-4831-ABAA-AA7E0681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E1A5-9691-4723-A732-43F13EDA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6C873-0882-4CBC-8D58-472EB9B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5358-3549-41C5-846E-1D28CC6E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12F-C8A7-4408-B4AD-1A254087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8280" y="704520"/>
            <a:ext cx="826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A275-7ADE-45EC-8F57-1C98983E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E98DF-D019-4784-8B59-E3B2568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7081-3303-49B6-B16D-4480819E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BC55-FF81-49C6-A1EB-366AAF54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5478-D043-4D1B-9BCA-041623A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A5416-711E-4744-A645-42FAFB36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522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458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828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522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458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0372-D4A4-402E-AF0A-5BEC8FAE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3447-277F-41FF-90F7-03BD4C01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7A10-8759-4D5A-8F68-427380D7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BA39-6B0B-4105-82E0-A48B19B3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928-387B-4109-A6BF-B71C3DCC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21D8-8F47-421B-B431-364A6D52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766D-1CA7-432B-85FE-5FF8CB1F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8280" y="704520"/>
            <a:ext cx="826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40D5-9E65-47E0-BA1D-616F9716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FFE22-FA5E-415F-8056-79F4E7FF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FFCA-D6B6-4C34-9F82-20C7F6E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D7442-A932-4232-B77E-175F639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D967-FFE1-4D10-B354-8B917F56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31558-D1AA-42EC-BA5F-AA8520CC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522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458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828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522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458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F845-0DF9-4428-A395-F6C3373A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391DF-0E6D-4BB5-BC6C-A76B7200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627-9BC6-4493-956C-6E6FD7A5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45FE8-DFBB-457B-87E3-977798BA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176E-269C-4B8B-AB39-B3FEDB6A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29032-E785-405C-8E20-08A5E579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F5D5D-1377-4F08-AE92-7E6AA0CC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8280" y="704520"/>
            <a:ext cx="826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27EF4-5377-4D87-8800-90FAD526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501C0-0741-4E41-A718-047732A1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475D-8994-417F-9764-8D64CCA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6D9B-1661-4E3E-BD1C-B721B23B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FA21B-391F-4214-8178-2FEF64BC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DC3D-B040-44D1-B647-DD5F2786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8280" y="704520"/>
            <a:ext cx="826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8CD-15AE-4158-B2A2-251C26B6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522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5840" y="19346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828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522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5840" y="4227840"/>
            <a:ext cx="2660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31BA-3EA1-421C-BD99-41C9CC39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F34-D68A-48EC-A935-9F032C98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2600" y="42278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D00-5E2C-40BC-9896-5CC4A96B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828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1934640"/>
            <a:ext cx="403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8280" y="422784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246-641B-488C-80E6-0B701083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99440" cy="1041480"/>
          </a:xfrm>
          <a:custGeom>
            <a:avLst/>
            <a:gdLst>
              <a:gd name="textAreaLeft" fmla="*/ 0 w 9199440"/>
              <a:gd name="textAreaRight" fmla="*/ 9199800 w 9199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98840" y="-7920"/>
            <a:ext cx="4781520" cy="638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8640" y="6356520"/>
            <a:ext cx="21434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77680" y="6356520"/>
            <a:ext cx="3365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56360" y="6356520"/>
            <a:ext cx="765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E057-B5FB-4B23-B780-A5D2DF073979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217440" cy="648000"/>
            <a:chOff x="-19080" y="203040"/>
            <a:chExt cx="921744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92960" cy="648000"/>
              <a:chOff x="-19080" y="203040"/>
              <a:chExt cx="919296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699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9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217440" cy="561600"/>
              <a:chOff x="-19080" y="248040"/>
              <a:chExt cx="921744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201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99440" cy="1041480"/>
          </a:xfrm>
          <a:custGeom>
            <a:avLst/>
            <a:gdLst>
              <a:gd name="textAreaLeft" fmla="*/ 0 w 9199440"/>
              <a:gd name="textAreaRight" fmla="*/ 9199800 w 9199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98840" y="-7920"/>
            <a:ext cx="4781520" cy="638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217440" cy="648000"/>
            <a:chOff x="-19080" y="203040"/>
            <a:chExt cx="921744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92960" cy="648000"/>
              <a:chOff x="-19080" y="203040"/>
              <a:chExt cx="919296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699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9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217440" cy="561600"/>
              <a:chOff x="-19080" y="248040"/>
              <a:chExt cx="921744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201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8640" y="6356520"/>
            <a:ext cx="21434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77680" y="6356520"/>
            <a:ext cx="3365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56360" y="6356520"/>
            <a:ext cx="765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EA33-34E7-4EFA-997F-2B9574B8B269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99440" cy="1041480"/>
          </a:xfrm>
          <a:custGeom>
            <a:avLst/>
            <a:gdLst>
              <a:gd name="textAreaLeft" fmla="*/ 0 w 9199440"/>
              <a:gd name="textAreaRight" fmla="*/ 9199800 w 9199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98840" y="-7920"/>
            <a:ext cx="4781520" cy="638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217440" cy="648000"/>
            <a:chOff x="-19080" y="203040"/>
            <a:chExt cx="921744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92960" cy="648000"/>
              <a:chOff x="-19080" y="203040"/>
              <a:chExt cx="919296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699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9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217440" cy="561600"/>
              <a:chOff x="-19080" y="248040"/>
              <a:chExt cx="921744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201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8640" y="6356520"/>
            <a:ext cx="21434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77680" y="6356520"/>
            <a:ext cx="3365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56360" y="6356520"/>
            <a:ext cx="765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7FCF-87AE-443A-AA09-B0877D2607C6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77720" y="1107720"/>
            <a:ext cx="5278680" cy="4114800"/>
          </a:xfrm>
          <a:custGeom>
            <a:avLst/>
            <a:gdLst/>
            <a:ahLst/>
            <a:rect l="l" t="t" r="r" b="b"/>
            <a:pathLst>
              <a:path w="5278438" h="4114800">
                <a:moveTo>
                  <a:pt x="0" y="0"/>
                </a:moveTo>
                <a:lnTo>
                  <a:pt x="5128412" y="0"/>
                </a:lnTo>
                <a:lnTo>
                  <a:pt x="5278438" y="150026"/>
                </a:lnTo>
                <a:lnTo>
                  <a:pt x="5278438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3556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99440" cy="1041480"/>
          </a:xfrm>
          <a:custGeom>
            <a:avLst/>
            <a:gdLst>
              <a:gd name="textAreaLeft" fmla="*/ 0 w 9199440"/>
              <a:gd name="textAreaRight" fmla="*/ 9199800 w 9199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98840" y="6219000"/>
            <a:ext cx="4781520" cy="638280"/>
          </a:xfrm>
          <a:custGeom>
            <a:avLst/>
            <a:gdLst>
              <a:gd name="textAreaLeft" fmla="*/ 0 w 4781520"/>
              <a:gd name="textAreaRight" fmla="*/ 4781880 w 4781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8640" y="6356520"/>
            <a:ext cx="21434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77680" y="6356520"/>
            <a:ext cx="3365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109000" y="635652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2B37-E389-4C74-AB25-040429430420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99440" cy="1041480"/>
          </a:xfrm>
          <a:custGeom>
            <a:avLst/>
            <a:gdLst>
              <a:gd name="textAreaLeft" fmla="*/ 0 w 9199440"/>
              <a:gd name="textAreaRight" fmla="*/ 9199800 w 9199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98840" y="-7920"/>
            <a:ext cx="4781520" cy="638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217440" cy="648000"/>
            <a:chOff x="-19080" y="203040"/>
            <a:chExt cx="921744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92960" cy="648000"/>
              <a:chOff x="-19080" y="203040"/>
              <a:chExt cx="919296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699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9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217440" cy="561600"/>
              <a:chOff x="-19080" y="248040"/>
              <a:chExt cx="921744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201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8280" y="70452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8280" y="1934640"/>
            <a:ext cx="826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8640" y="6244920"/>
            <a:ext cx="2143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37040" y="6244920"/>
            <a:ext cx="29066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78280" y="6244920"/>
            <a:ext cx="2143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9C2B-6B39-49E3-A47C-FF68D3F9C99D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jV8qn_9qvLAhWhKJoKHYOBAvsQjRwIBw&amp;url=http%3A%2F%2Fwww.accroscrap.com%2Faccroscrap%2Findex.php%2Fgrosplanproduits%2Flesproduitsfiskars&amp;psig=AFQjCNH3uMthSLMPts8d4G9mrpExUVDi-g&amp;ust=1457347669687546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jfyfKq8avLAhWiFJoKHTx2BAAQjRwIBw&amp;url=http%3A%2F%2Fwww.ecoledecrevette.fr%2Fcup-cakes-d-anniversaire-a48655046&amp;psig=AFQjCNH3uMthSLMPts8d4G9mrpExUVDi-g&amp;ust=1457347669687546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s://www.google.co.uk/url?sa=i&amp;rct=j&amp;q=&amp;esrc=s&amp;source=images&amp;cd=&amp;cad=rja&amp;uact=8&amp;ved=0ahUKEwi4oo6K86vLAhXlFJoKHZS1Cj8QjRwIBw&amp;url=https%3A%2F%2Fwww.pinterest.com%2Fpin%2F528328600009520615%2F&amp;psig=AFQjCNH3uMthSLMPts8d4G9mrpExUVDi-g&amp;ust=1457347669687546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google.co.uk/url?sa=i&amp;rct=j&amp;q=&amp;esrc=s&amp;source=images&amp;cd=&amp;cad=rja&amp;uact=8&amp;ved=0ahUKEwi4oo6K86vLAhXlFJoKHZS1Cj8QjRwIBw&amp;url=https%3A%2F%2Fwww.pinterest.com%2Fpin%2F528328600009520615%2F&amp;psig=AFQjCNH3uMthSLMPts8d4G9mrpExUVDi-g&amp;ust=1457347669687546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3.storage.canalblog.com/37/83/251207/36737478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jFsdHZ86vLAhXHYZoKHW0-DKoQjRwIBw&amp;url=http%3A%2F%2Fwww.ecolepetitesection.com%2Farticle-calendrier-chez-marie-luce-photos-2014-119786720.html&amp;psig=AFQjCNH3uMthSLMPts8d4G9mrpExUVDi-g&amp;ust=1457347669687546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ixge-G_6vLAhWDuBQKHYLuBEMQjRwIBw&amp;url=http%3A%2F%2Ffr.slideshare.net%2Fiesjp%2Fla-mto&amp;psig=AFQjCNHYdaRxMr46bYiWTzBX4rZN1FPfPw&amp;ust=1457351355975003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j26I-Oh6zLAhXoZpoKHfKCAKIQjRwIBw&amp;url=http%3A%2F%2Fmeteocentre.com%2Fintermet%2Fexpert%2Fpage_pomme.htm&amp;psig=AFQjCNFp0oOGcwvMTtcpaJAN2xVXwbSMSQ&amp;ust=1457353276818000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C:\Users\Sarah English\AppData\Local\Microsoft\Windows\Temporary Internet Files\Content.IE5\7TN1XLHV\975px-Flag_map_of_Greater_France[1].png"/>
          <p:cNvPicPr/>
          <p:nvPr/>
        </p:nvPicPr>
        <p:blipFill>
          <a:blip r:embed="rId1"/>
          <a:stretch/>
        </p:blipFill>
        <p:spPr>
          <a:xfrm>
            <a:off x="1325520" y="0"/>
            <a:ext cx="652932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0360" y="1125360"/>
            <a:ext cx="8262720" cy="366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2303e"/>
                </a:solidFill>
                <a:latin typeface="MV Boli"/>
                <a:ea typeface="MV Boli"/>
              </a:rPr>
              <a:t>Le calendrier </a:t>
            </a:r>
            <a:br>
              <a:rPr sz="7200"/>
            </a:br>
            <a:r>
              <a:rPr b="1" lang="en-GB" sz="7200" spc="-1" strike="noStrike">
                <a:solidFill>
                  <a:srgbClr val="02303e"/>
                </a:solidFill>
                <a:latin typeface="MV Boli"/>
                <a:ea typeface="MV Boli"/>
              </a:rPr>
              <a:t>des</a:t>
            </a:r>
            <a:br>
              <a:rPr sz="7200"/>
            </a:br>
            <a:r>
              <a:rPr b="1" lang="en-GB" sz="7200" spc="-1" strike="noStrike">
                <a:solidFill>
                  <a:srgbClr val="02303e"/>
                </a:solidFill>
                <a:latin typeface="MV Boli"/>
                <a:ea typeface="MV Boli"/>
              </a:rPr>
              <a:t> anniversaires</a:t>
            </a:r>
            <a:br>
              <a:rPr sz="7200"/>
            </a:br>
            <a:r>
              <a:rPr b="1" lang="en-GB" sz="7200" spc="-1" strike="noStrike">
                <a:solidFill>
                  <a:srgbClr val="02303e"/>
                </a:solidFill>
                <a:latin typeface="MV Boli"/>
                <a:ea typeface="MV Boli"/>
              </a:rPr>
              <a:t>pour la class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92" descr="C:\Users\Sarah English\AppData\Local\Microsoft\Windows\Temporary Internet Files\Content.IE5\IUZS43PA\DaveViveLaFrance[1].gif"/>
          <p:cNvPicPr/>
          <p:nvPr/>
        </p:nvPicPr>
        <p:blipFill>
          <a:blip r:embed="rId2"/>
          <a:stretch/>
        </p:blipFill>
        <p:spPr>
          <a:xfrm>
            <a:off x="7686720" y="189000"/>
            <a:ext cx="1336680" cy="1014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" descr=""/>
          <p:cNvPicPr/>
          <p:nvPr/>
        </p:nvPicPr>
        <p:blipFill>
          <a:blip r:embed="rId3"/>
          <a:stretch/>
        </p:blipFill>
        <p:spPr>
          <a:xfrm>
            <a:off x="157320" y="5445000"/>
            <a:ext cx="1463400" cy="1197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4"/>
          <a:stretch/>
        </p:blipFill>
        <p:spPr>
          <a:xfrm>
            <a:off x="7691400" y="5548320"/>
            <a:ext cx="1386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ttp://www.accroscrap.com/accroscrap/images/stories/PhotoGal/produits/fiskars/fevrier2013/accroscrap_5699S-TAMPON-CONTINU-PETIT-TRAIN-FISKA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280" y="1689120"/>
            <a:ext cx="8856720" cy="32958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"/>
          <p:cNvSpPr/>
          <p:nvPr/>
        </p:nvSpPr>
        <p:spPr>
          <a:xfrm>
            <a:off x="3726000" y="35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 rot="354600">
            <a:off x="5541840" y="3573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év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7254720" y="3573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http://www.minimat.net/mimi/anniv-wagons-nb.gif"/>
          <p:cNvPicPr/>
          <p:nvPr/>
        </p:nvPicPr>
        <p:blipFill>
          <a:blip r:embed="rId1"/>
          <a:stretch/>
        </p:blipFill>
        <p:spPr>
          <a:xfrm>
            <a:off x="1062000" y="1125360"/>
            <a:ext cx="7305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http://www.pedagogie.ac-nantes.fr/servlet/com.univ.collaboratif.utils.LectureFichiergw?ID_FICHIER=1377855861582&amp;ID_FICHE=1377854624857"/>
          <p:cNvPicPr/>
          <p:nvPr/>
        </p:nvPicPr>
        <p:blipFill>
          <a:blip r:embed="rId1"/>
          <a:stretch/>
        </p:blipFill>
        <p:spPr>
          <a:xfrm>
            <a:off x="1062000" y="1197000"/>
            <a:ext cx="6905520" cy="48895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3"/>
          <p:cNvSpPr/>
          <p:nvPr/>
        </p:nvSpPr>
        <p:spPr>
          <a:xfrm>
            <a:off x="2862360" y="1052640"/>
            <a:ext cx="3671640" cy="91692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55a839"/>
                </a:solidFill>
                <a:latin typeface="Arial"/>
              </a:rPr>
              <a:t>Avril 20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4360" y="0"/>
            <a:ext cx="61927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2303e"/>
                </a:solidFill>
                <a:latin typeface="MV Boli"/>
                <a:ea typeface="MV Boli"/>
              </a:rPr>
              <a:t>Le calendrier des Anniversair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70000" y="1341360"/>
          <a:ext cx="8458200" cy="4998960"/>
        </p:xfrm>
        <a:graphic>
          <a:graphicData uri="http://schemas.openxmlformats.org/drawingml/2006/table">
            <a:tbl>
              <a:tblPr/>
              <a:tblGrid>
                <a:gridCol w="1406520"/>
                <a:gridCol w="1414440"/>
                <a:gridCol w="1406520"/>
                <a:gridCol w="1412640"/>
                <a:gridCol w="1406520"/>
                <a:gridCol w="141156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janv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févr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m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avr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m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ju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Picture 254" descr="C:\Users\Sarah English\AppData\Local\Microsoft\Windows\Temporary Internet Files\Content.IE5\7TN1XLHV\mois-de-janvier2-300x218[1].jpg"/>
          <p:cNvPicPr/>
          <p:nvPr/>
        </p:nvPicPr>
        <p:blipFill>
          <a:blip r:embed="rId1"/>
          <a:stretch/>
        </p:blipFill>
        <p:spPr>
          <a:xfrm>
            <a:off x="341280" y="1916280"/>
            <a:ext cx="1224000" cy="1322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56" descr="C:\Users\Sarah English\AppData\Local\Microsoft\Windows\Temporary Internet Files\Content.IE5\GGTS2H3C\poisson_d'avril[1].jpg"/>
          <p:cNvPicPr/>
          <p:nvPr/>
        </p:nvPicPr>
        <p:blipFill>
          <a:blip r:embed="rId2"/>
          <a:stretch/>
        </p:blipFill>
        <p:spPr>
          <a:xfrm>
            <a:off x="4589640" y="1986120"/>
            <a:ext cx="1225440" cy="1242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58" descr="C:\Users\Sarah English\AppData\Local\Microsoft\Windows\Temporary Internet Files\Content.IE5\5NF8NH2X\1-mai-mezeluri-logo[1].png"/>
          <p:cNvPicPr/>
          <p:nvPr/>
        </p:nvPicPr>
        <p:blipFill>
          <a:blip r:embed="rId3"/>
          <a:stretch/>
        </p:blipFill>
        <p:spPr>
          <a:xfrm>
            <a:off x="5815080" y="1844640"/>
            <a:ext cx="1522440" cy="151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61" descr="C:\Users\Sarah English\AppData\Local\Microsoft\Windows\Temporary Internet Files\Content.IE5\7TN1XLHV\feb_desktop_1[1].jpg"/>
          <p:cNvPicPr/>
          <p:nvPr/>
        </p:nvPicPr>
        <p:blipFill>
          <a:blip r:embed="rId4"/>
          <a:stretch/>
        </p:blipFill>
        <p:spPr>
          <a:xfrm>
            <a:off x="1709640" y="2060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66" descr="http://www.coloriage.tv/dessincolo/mois-de-juin.png"/>
          <p:cNvPicPr/>
          <p:nvPr/>
        </p:nvPicPr>
        <p:blipFill>
          <a:blip r:embed="rId5"/>
          <a:stretch/>
        </p:blipFill>
        <p:spPr>
          <a:xfrm>
            <a:off x="7470720" y="2060640"/>
            <a:ext cx="1046160" cy="1046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2" descr="C:\Users\Sarah English\AppData\Local\Microsoft\Windows\Temporary Internet Files\Content.IE5\IUZS43PA\DaveViveLaFrance[1].gif"/>
          <p:cNvPicPr/>
          <p:nvPr/>
        </p:nvPicPr>
        <p:blipFill>
          <a:blip r:embed="rId6"/>
          <a:stretch/>
        </p:blipFill>
        <p:spPr>
          <a:xfrm>
            <a:off x="7686720" y="189000"/>
            <a:ext cx="1336680" cy="1014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8" descr="mars"/>
          <p:cNvPicPr/>
          <p:nvPr/>
        </p:nvPicPr>
        <p:blipFill>
          <a:blip r:embed="rId7"/>
          <a:stretch/>
        </p:blipFill>
        <p:spPr>
          <a:xfrm>
            <a:off x="3149640" y="2052720"/>
            <a:ext cx="129708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270000" y="189000"/>
            <a:ext cx="734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2303e"/>
                </a:solidFill>
                <a:latin typeface="MV Boli"/>
                <a:ea typeface="MV Boli"/>
              </a:rPr>
              <a:t>Le calendrier des Annivers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8360" y="1773360"/>
          <a:ext cx="8802720" cy="4647960"/>
        </p:xfrm>
        <a:graphic>
          <a:graphicData uri="http://schemas.openxmlformats.org/drawingml/2006/table">
            <a:tbl>
              <a:tblPr/>
              <a:tblGrid>
                <a:gridCol w="1465200"/>
                <a:gridCol w="1360800"/>
                <a:gridCol w="1576080"/>
                <a:gridCol w="1468440"/>
                <a:gridCol w="1463760"/>
                <a:gridCol w="1468440"/>
              </a:tblGrid>
              <a:tr h="130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juill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aoû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septe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octo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nove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déce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8" name="Picture 66" descr="C:\Users\Sarah English\AppData\Local\Microsoft\Windows\Temporary Internet Files\Content.IE5\IUZS43PA\septembre[1].jpg"/>
          <p:cNvPicPr/>
          <p:nvPr/>
        </p:nvPicPr>
        <p:blipFill>
          <a:blip r:embed="rId1"/>
          <a:stretch/>
        </p:blipFill>
        <p:spPr>
          <a:xfrm>
            <a:off x="3006720" y="2133720"/>
            <a:ext cx="1370160" cy="117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8" descr="C:\Users\Sarah English\AppData\Local\Microsoft\Windows\Temporary Internet Files\Content.IE5\GGTS2H3C\513804bon_14_juillet_1_[1].gif"/>
          <p:cNvPicPr/>
          <p:nvPr/>
        </p:nvPicPr>
        <p:blipFill>
          <a:blip r:embed="rId2"/>
          <a:stretch/>
        </p:blipFill>
        <p:spPr>
          <a:xfrm>
            <a:off x="341280" y="2133720"/>
            <a:ext cx="1111320" cy="1238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5" descr="C:\Users\Sarah English\AppData\Local\Microsoft\Windows\Temporary Internet Files\Content.IE5\7TN1XLHV\NOVEMBRE[1].jpg"/>
          <p:cNvPicPr/>
          <p:nvPr/>
        </p:nvPicPr>
        <p:blipFill>
          <a:blip r:embed="rId3"/>
          <a:stretch/>
        </p:blipFill>
        <p:spPr>
          <a:xfrm>
            <a:off x="6246720" y="2349360"/>
            <a:ext cx="1224000" cy="941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8" descr="C:\Users\Sarah English\AppData\Local\Microsoft\Windows\Temporary Internet Files\Content.IE5\367FZVZ2\capture-d_ecran-2010-11-01-a-09-05-30[1].png"/>
          <p:cNvPicPr/>
          <p:nvPr/>
        </p:nvPicPr>
        <p:blipFill>
          <a:blip r:embed="rId4"/>
          <a:stretch/>
        </p:blipFill>
        <p:spPr>
          <a:xfrm>
            <a:off x="4662360" y="2276640"/>
            <a:ext cx="1295640" cy="107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2" descr="C:\Users\Sarah English\AppData\Local\Microsoft\Windows\Temporary Internet Files\Content.IE5\367FZVZ2\noel_dessin[1].jpg"/>
          <p:cNvPicPr/>
          <p:nvPr/>
        </p:nvPicPr>
        <p:blipFill>
          <a:blip r:embed="rId5"/>
          <a:stretch/>
        </p:blipFill>
        <p:spPr>
          <a:xfrm>
            <a:off x="7686720" y="2205000"/>
            <a:ext cx="1295280" cy="1109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1" descr="C:\Users\Sarah English\AppData\Local\Microsoft\Windows\Temporary Internet Files\Content.IE5\7TN1XLHV\good_sun1[1].jpg"/>
          <p:cNvPicPr/>
          <p:nvPr/>
        </p:nvPicPr>
        <p:blipFill>
          <a:blip r:embed="rId6"/>
          <a:stretch/>
        </p:blipFill>
        <p:spPr>
          <a:xfrm>
            <a:off x="1781280" y="2276640"/>
            <a:ext cx="1001520" cy="1011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2" descr="C:\Users\Sarah English\AppData\Local\Microsoft\Windows\Temporary Internet Files\Content.IE5\IUZS43PA\DaveViveLaFrance[1].gif"/>
          <p:cNvPicPr/>
          <p:nvPr/>
        </p:nvPicPr>
        <p:blipFill>
          <a:blip r:embed="rId7"/>
          <a:stretch/>
        </p:blipFill>
        <p:spPr>
          <a:xfrm>
            <a:off x="7686720" y="189000"/>
            <a:ext cx="13366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ekladata.com/1BjRQtPar4An9nrIRNuJ6UIv8z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60" y="1052640"/>
            <a:ext cx="5033880" cy="4752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s://s-media-cache-ak0.pinimg.com/736x/fa/63/d5/fa63d5bb7cebb0100370a6bc5dcc7d8f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42000" y="2205000"/>
            <a:ext cx="2962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s://s-media-cache-ak0.pinimg.com/736x/fa/63/d5/fa63d5bb7cebb0100370a6bc5dcc7d8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33640" y="907920"/>
            <a:ext cx="6908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Photo_FEVRIER_2009_2_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6360" y="333360"/>
            <a:ext cx="6912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http://idata.over-blog.com/1/27/08/90/2014/collegues/marie-luce/calendri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3280" y="620640"/>
            <a:ext cx="773244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image.slidesharecdn.com/lamto-100208125228-phpapp01/95/la-mto-1-728.jpg?cb=12656335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360" y="692280"/>
            <a:ext cx="76802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://meteocentre.com/intermet/expert/figure/pomm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65280" y="549360"/>
            <a:ext cx="59659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0:10:26Z</dcterms:created>
  <dc:creator>saenglish</dc:creator>
  <dc:description/>
  <dc:language>en-US</dc:language>
  <cp:lastModifiedBy>Julie Thain</cp:lastModifiedBy>
  <dcterms:modified xsi:type="dcterms:W3CDTF">2016-04-01T14:47:20Z</dcterms:modified>
  <cp:revision>69</cp:revision>
  <dc:subject/>
  <dc:title>Le calendrier des Anniversaires</dc:title>
</cp:coreProperties>
</file>